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3.png" ContentType="image/png"/>
  <Override PartName="/ppt/media/image19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17.png" ContentType="image/png"/>
  <Override PartName="/ppt/media/image32.jpeg" ContentType="image/jpeg"/>
  <Override PartName="/ppt/media/type.wav" ContentType="audio/x-wav"/>
  <Override PartName="/ppt/media/image18.png" ContentType="image/png"/>
  <Override PartName="/ppt/media/image21.jpeg" ContentType="image/jpeg"/>
  <Override PartName="/ppt/media/image6.gif" ContentType="image/gif"/>
  <Override PartName="/ppt/media/camera.wav" ContentType="audio/x-wav"/>
  <Override PartName="/ppt/media/image2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9.jpeg" ContentType="image/jpeg"/>
  <Override PartName="/ppt/media/image22.jpeg" ContentType="image/jpeg"/>
  <Override PartName="/ppt/media/image13.gif" ContentType="image/gif"/>
  <Override PartName="/ppt/media/image16.jpeg" ContentType="image/jpeg"/>
  <Override PartName="/ppt/media/image29.jpeg" ContentType="image/jpeg"/>
  <Override PartName="/ppt/media/image35.jpeg" ContentType="image/jpeg"/>
  <Override PartName="/ppt/media/image10.jpeg" ContentType="image/jpeg"/>
  <Override PartName="/ppt/media/image28.gif" ContentType="image/gif"/>
  <Override PartName="/ppt/media/image30.jpeg" ContentType="image/jpeg"/>
  <Override PartName="/ppt/media/image12.gif" ContentType="image/gif"/>
  <Override PartName="/ppt/media/image31.jpeg" ContentType="image/jpeg"/>
  <Override PartName="/ppt/media/image3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4.png" ContentType="image/png"/>
  <Override PartName="/ppt/media/image40.jpeg" ContentType="image/jpeg"/>
  <Override PartName="/ppt/media/image7.jpeg" ContentType="image/jpeg"/>
  <Override PartName="/ppt/media/image38.jpeg" ContentType="image/jpeg"/>
  <Override PartName="/ppt/media/image42.gif" ContentType="image/gif"/>
  <Override PartName="/ppt/media/projctor.wav" ContentType="audio/x-wav"/>
  <Override PartName="/ppt/media/image43.gif" ContentType="image/gif"/>
  <Override PartName="/ppt/media/image3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11.gif" ContentType="image/gif"/>
  <Override PartName="/ppt/media/image5.jpeg" ContentType="image/jpeg"/>
  <Override PartName="/ppt/media/image26.jpeg" ContentType="image/jpeg"/>
  <Override PartName="/ppt/media/image33.jpeg" ContentType="image/jpeg"/>
  <Override PartName="/ppt/media/image4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  <p:custShowLst>
    <p:custShow name="自定义放映1" id="0">
      <p:sldLst>
        <p:sld r:id="rId24"/>
        <p:sld r:id="rId2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21D3-2259-4ECD-A2D9-03F511567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7569-E00F-4625-9710-87AF2980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EE68-8385-4392-B22D-E234A2196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FCC3-C116-4D3C-8DFA-5F76D6415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E04F-D0F6-42DB-A25E-CA18E9BEC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DFCF2-306F-4FE7-9243-9EFBBEB7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64B6-EE2A-4C41-9D3E-3CF52369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B2AF-95D8-42B8-B923-3E7BAB4C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2BAD-574C-4363-8ED6-3ADBB7EC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8C1BB-AC3D-4DA8-AEB7-F2715000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4E3C7-A345-406D-A548-0D47A32F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8F5D-939C-4B21-82D6-7101A9DF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4EEF-7A20-4469-8BB0-F3C5F13E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08CE7-F696-4F8F-A6DA-C4B01709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822A-AE65-4533-B3B4-729A977F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67B72-4E97-4C99-BB73-6C93D8FDD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7582-2B47-4786-8E54-B4DC5AB12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C3030-ACD7-4A13-A189-4CFA2AE63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F8289-2182-4856-BED5-8269636F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21E82-EC58-4BF7-A138-36B9F106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9D9B5-4A8A-4CE1-93B9-7C77AB25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33996-DC9C-4569-8A8D-A78F6186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7E95-D3B0-43A1-8EB5-465C7272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FE2FA-5BB4-4712-A253-58303503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1B4E2-80C1-4ACF-B825-61688C17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54374-BC8D-485E-B848-86E4F664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368F7-2904-4742-969F-228FF6C1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8B5C4-1FAD-4455-A1C1-56ED7B8C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67F87-8FBA-4658-962F-F1FC1D7E4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3867B-73E6-42C2-95A8-5F4F566FB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6223B-041D-4342-95C3-E927E2339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48925-E946-4910-B399-876819DC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56D9A-869B-4ECA-B953-7CB16F54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D200-9594-4B6D-874C-B5E20388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2E273-6694-46F2-BB13-454D773A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0EE1B-46AB-4F2D-8A48-D147CAD8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A90D5-4F95-4B75-A111-1ABA2FA6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DF114-64EF-42B0-B34C-71501B98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3F9C4-35C9-4649-8A53-9C6CA94A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738FF-1140-429C-B699-522995B6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D5A4E-8A72-4605-BF83-F00A4F39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64C7A-2528-419B-8FF9-29623CA43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88F00-C3CF-48B8-8A66-332813CD9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D977-3595-4AE3-A56A-91257403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5DD4-16C6-4244-AF28-EB69FF05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2F6F-90E2-4D9D-B578-E99F2FF6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933B-A6C8-4ED1-B6D1-EB0EE2A9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96D0-9058-4DAD-AE7D-F7EC9D99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111E-51A4-4CC0-B813-71EF75E2DA4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A016-14FD-48E9-8E70-8EA221B7C4B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872E-1450-420F-AE6E-5BACCB50BB35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16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26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0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233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42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43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46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47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248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49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7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C2D7-0B65-4250-8FB1-80ACBDB0B496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00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04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9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10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14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9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4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slide" Target="slide6.xml"/><Relationship Id="rId4" Type="http://schemas.openxmlformats.org/officeDocument/2006/relationships/image" Target="../media/image28.gif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16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37.jpeg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42.gif"/><Relationship Id="rId3" Type="http://schemas.openxmlformats.org/officeDocument/2006/relationships/image" Target="../media/image43.gif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3.gif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04700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73040" y="4941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高二（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）班班会观摩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26920" y="2492280"/>
            <a:ext cx="7632720" cy="15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欢迎各位老师莅临指导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6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40458c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advTm="2000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539640" y="620640"/>
            <a:ext cx="381024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_x000b__x000c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40458c"/>
                </a:solidFill>
                <a:uFillTx/>
                <a:latin typeface="_x000b__x000c_"/>
              </a:rPr>
              <a:t>【生命之翼】</a:t>
            </a:r>
            <a:r>
              <a:rPr b="1" lang="zh-CN" sz="2400" spc="-1" strike="noStrike">
                <a:solidFill>
                  <a:srgbClr val="40458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Comic Sans MS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40458c"/>
                </a:solidFill>
                <a:latin typeface="Comic Sans MS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40458c"/>
                </a:solidFill>
                <a:latin typeface="Comic Sans MS"/>
                <a:ea typeface="楷体_GB2312"/>
              </a:rPr>
              <a:t>个人</a:t>
            </a:r>
            <a:r>
              <a:rPr b="1" lang="zh-CN" sz="2400" spc="-1" strike="noStrike">
                <a:solidFill>
                  <a:srgbClr val="40458c"/>
                </a:solidFill>
                <a:latin typeface="Comic Sans MS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40458c"/>
                </a:solidFill>
                <a:latin typeface="Comic Sans MS"/>
                <a:ea typeface="楷体_GB2312"/>
              </a:rPr>
              <a:t>条腿，</a:t>
            </a:r>
            <a:r>
              <a:rPr b="1" lang="zh-CN" sz="2400" spc="-1" strike="noStrike">
                <a:solidFill>
                  <a:srgbClr val="40458c"/>
                </a:solidFill>
                <a:latin typeface="Comic Sans MS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40458c"/>
                </a:solidFill>
                <a:latin typeface="Comic Sans MS"/>
                <a:ea typeface="楷体_GB2312"/>
              </a:rPr>
              <a:t>根拐一条心。这个名为《生命之翼》的舞蹈，在第十一届国际舞蹈大赛中，与世界级健全人舞蹈家们在同一评判标准下比赛中，获得唯一的最优秀奖</a:t>
            </a:r>
            <a:r>
              <a:rPr b="1" lang="zh-CN" sz="2000" spc="-1" strike="noStrike">
                <a:solidFill>
                  <a:srgbClr val="40458c"/>
                </a:solidFill>
                <a:latin typeface="Comic Sans MS"/>
                <a:ea typeface="楷体_GB2312"/>
              </a:rPr>
              <a:t>。</a:t>
            </a:r>
            <a:r>
              <a:rPr b="1" lang="zh-CN" sz="2000" spc="-1" strike="noStrike">
                <a:solidFill>
                  <a:srgbClr val="40458c"/>
                </a:solidFill>
                <a:latin typeface="Comic Sans MS"/>
                <a:ea typeface="华文细黑"/>
              </a:rPr>
              <a:t>                                      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03" name="NewsMedia_15409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0" y="228600"/>
            <a:ext cx="4191120" cy="35812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4859280" y="393372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五位残疾人，面对生活艰辛，凭借十根拐杖，用</a:t>
            </a:r>
            <a:r>
              <a:rPr b="1" lang="zh-CN" sz="2400" spc="-1" strike="noStrike">
                <a:solidFill>
                  <a:srgbClr val="660066"/>
                </a:solidFill>
                <a:latin typeface="_x000b__x000c_"/>
              </a:rPr>
              <a:t>精湛的技艺和自强不息的精神，震撼了观众，赢得了尊重；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而四位身体健全花季少女，因为所谓的“挫折”却选择放弃了生命……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8360" y="3645000"/>
            <a:ext cx="38862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40458c"/>
                </a:solidFill>
                <a:uFillTx/>
                <a:latin typeface="Comic Sans MS"/>
              </a:rPr>
              <a:t>【年轻生命的陨落】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Comic Sans MS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40458c"/>
                </a:solidFill>
                <a:latin typeface="Comic Sans MS"/>
                <a:ea typeface="楷体_GB2312"/>
              </a:rPr>
              <a:t>2001</a:t>
            </a:r>
            <a:r>
              <a:rPr b="1" lang="zh-CN" sz="2400" spc="-1" strike="noStrike">
                <a:solidFill>
                  <a:srgbClr val="40458c"/>
                </a:solidFill>
                <a:latin typeface="Comic Sans MS"/>
                <a:ea typeface="楷体_GB2312"/>
              </a:rPr>
              <a:t>年</a:t>
            </a:r>
            <a:r>
              <a:rPr b="1" lang="zh-CN" sz="2400" spc="-1" strike="noStrike">
                <a:solidFill>
                  <a:srgbClr val="40458c"/>
                </a:solidFill>
                <a:latin typeface="Comic Sans MS"/>
                <a:ea typeface="楷体_GB2312"/>
              </a:rPr>
              <a:t>11</a:t>
            </a:r>
            <a:r>
              <a:rPr b="1" lang="zh-CN" sz="2400" spc="-1" strike="noStrike">
                <a:solidFill>
                  <a:srgbClr val="40458c"/>
                </a:solidFill>
                <a:latin typeface="Comic Sans MS"/>
                <a:ea typeface="楷体_GB2312"/>
              </a:rPr>
              <a:t>月</a:t>
            </a:r>
            <a:r>
              <a:rPr b="1" lang="zh-CN" sz="2400" spc="-1" strike="noStrike">
                <a:solidFill>
                  <a:srgbClr val="40458c"/>
                </a:solidFill>
                <a:latin typeface="Comic Sans MS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40458c"/>
                </a:solidFill>
                <a:latin typeface="Comic Sans MS"/>
                <a:ea typeface="楷体_GB2312"/>
              </a:rPr>
              <a:t>日，新疆石河子某中学初三（</a:t>
            </a:r>
            <a:r>
              <a:rPr b="1" lang="zh-CN" sz="2400" spc="-1" strike="noStrike">
                <a:solidFill>
                  <a:srgbClr val="40458c"/>
                </a:solidFill>
                <a:latin typeface="Comic Sans MS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40458c"/>
                </a:solidFill>
                <a:latin typeface="Comic Sans MS"/>
                <a:ea typeface="楷体_GB2312"/>
              </a:rPr>
              <a:t>）班</a:t>
            </a:r>
            <a:r>
              <a:rPr b="1" lang="zh-CN" sz="2400" spc="-1" strike="noStrike">
                <a:solidFill>
                  <a:srgbClr val="40458c"/>
                </a:solidFill>
                <a:latin typeface="Comic Sans MS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40458c"/>
                </a:solidFill>
                <a:latin typeface="Comic Sans MS"/>
                <a:ea typeface="楷体_GB2312"/>
              </a:rPr>
              <a:t>名花季少女，因半期考试成绩靠后，害怕家长责骂，她们便商议一起服药自杀寻求解脱</a:t>
            </a:r>
            <a:r>
              <a:rPr b="1" lang="zh-CN" sz="2400" spc="-1" strike="noStrike">
                <a:solidFill>
                  <a:srgbClr val="40458c"/>
                </a:solidFill>
                <a:latin typeface="楷体_GB2312"/>
                <a:ea typeface="楷体_GB2312"/>
              </a:rPr>
              <a:t>……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advTm="2000">
    <p:plus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116000" y="4684680"/>
            <a:ext cx="6192720" cy="459720"/>
          </a:xfrm>
          <a:prstGeom prst="rect">
            <a:avLst/>
          </a:prstGeom>
          <a:noFill/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Verdana"/>
              </a:rPr>
              <a:t>      </a:t>
            </a:r>
            <a:r>
              <a:rPr b="1" lang="zh-CN" sz="2400" spc="-1" strike="noStrike">
                <a:solidFill>
                  <a:srgbClr val="40458c"/>
                </a:solidFill>
                <a:latin typeface="Verdana"/>
                <a:ea typeface="黑体"/>
              </a:rPr>
              <a:t>也许你在某件事上是“倒霉”的，但你在其他方面可能依然很幸运。和那些不幸者相比，你或许还是一个十分幸运的人。“生活是一面镜子，你对它笑，它就笑；你对它哭，它就哭。”</a:t>
            </a:r>
            <a:r>
              <a:rPr b="0" lang="zh-CN" sz="1800" spc="-1" strike="noStrike">
                <a:solidFill>
                  <a:srgbClr val="40458c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116000" y="3699000"/>
            <a:ext cx="6192720" cy="459720"/>
          </a:xfrm>
          <a:prstGeom prst="rect">
            <a:avLst/>
          </a:prstGeom>
          <a:noFill/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40458c"/>
                </a:solidFill>
                <a:latin typeface="楷体_GB2312"/>
                <a:ea typeface="楷体_GB2312"/>
              </a:rPr>
              <a:t>任何问题都隐含着创造的可能。挫折给人以打击，带来损失和痛苦，但同时也能使人奋起、成熟，从中得到锻炼，正如大文豪巴尔扎克所说：“世界上的事情永远不是绝对的，结果完全因人而异。苦难对于天才是一块垫脚石，</a:t>
            </a:r>
            <a:r>
              <a:rPr b="1" lang="en-US" sz="2400" spc="-1" strike="noStrike">
                <a:solidFill>
                  <a:srgbClr val="40458c"/>
                </a:solidFill>
                <a:latin typeface="楷体_GB2312"/>
                <a:ea typeface="楷体_GB2312"/>
              </a:rPr>
              <a:t>…</a:t>
            </a:r>
            <a:r>
              <a:rPr b="1" lang="zh-CN" sz="2400" spc="-1" strike="noStrike">
                <a:solidFill>
                  <a:srgbClr val="40458c"/>
                </a:solidFill>
                <a:latin typeface="楷体_GB2312"/>
                <a:ea typeface="楷体_GB2312"/>
              </a:rPr>
              <a:t>对于能干的人是一笔财富，对于弱者是一个万丈深渊。</a:t>
            </a:r>
            <a:r>
              <a:rPr b="0" lang="zh-CN" sz="2400" spc="-1" strike="noStrike">
                <a:solidFill>
                  <a:srgbClr val="40458c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116000" y="2971800"/>
            <a:ext cx="6192720" cy="459720"/>
          </a:xfrm>
          <a:prstGeom prst="rect">
            <a:avLst/>
          </a:prstGeom>
          <a:noFill/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458c"/>
                </a:solidFill>
                <a:latin typeface="Verdana"/>
              </a:rPr>
              <a:t>      </a:t>
            </a:r>
            <a:r>
              <a:rPr b="1" lang="zh-CN" sz="2400" spc="-1" strike="noStrike">
                <a:solidFill>
                  <a:srgbClr val="40458c"/>
                </a:solidFill>
                <a:latin typeface="Verdana"/>
                <a:ea typeface="楷体_GB2312"/>
              </a:rPr>
              <a:t>你的挫折不会永远存在，你还要继续生存下去！暴风消逝时，晴空必然出现；冬雪融化时，生机必然展现。生命里的冬天，会消失无踪，你的挫折当然也会获得解决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1116000" y="1395360"/>
            <a:ext cx="3600360" cy="647640"/>
            <a:chOff x="1116000" y="1395360"/>
            <a:chExt cx="3600360" cy="647640"/>
          </a:xfrm>
        </p:grpSpPr>
        <p:sp>
          <p:nvSpPr>
            <p:cNvPr id="410" name=""/>
            <p:cNvSpPr/>
            <p:nvPr/>
          </p:nvSpPr>
          <p:spPr>
            <a:xfrm>
              <a:off x="1116000" y="1395360"/>
              <a:ext cx="360036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9eff"/>
                </a:gs>
                <a:gs pos="50000">
                  <a:srgbClr val="ffebfa"/>
                </a:gs>
                <a:gs pos="100000">
                  <a:srgbClr val="5e9eff"/>
                </a:gs>
              </a:gsLst>
              <a:lin ang="5400000"/>
            </a:gra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16000" y="1467000"/>
              <a:ext cx="36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黑体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40458c"/>
                  </a:solidFill>
                  <a:latin typeface="黑体"/>
                  <a:ea typeface="黑体"/>
                </a:rPr>
                <a:t>、每个人都会面临挫折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4861080" y="1467000"/>
            <a:ext cx="718920" cy="502920"/>
          </a:xfrm>
          <a:custGeom>
            <a:avLst/>
            <a:gdLst>
              <a:gd name="textAreaLeft" fmla="*/ 89640 w 718920"/>
              <a:gd name="textAreaRight" fmla="*/ 629280 w 718920"/>
              <a:gd name="textAreaTop" fmla="*/ 125640 h 502920"/>
              <a:gd name="textAreaBottom" fmla="*/ 377280 h 502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653080" y="1467000"/>
            <a:ext cx="158292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Verdana"/>
                <a:ea typeface="黑体"/>
              </a:rPr>
              <a:t>不要怕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116000" y="2114640"/>
            <a:ext cx="6192720" cy="459720"/>
          </a:xfrm>
          <a:prstGeom prst="rect">
            <a:avLst/>
          </a:prstGeom>
          <a:noFill/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40458c"/>
                </a:solidFill>
                <a:latin typeface="楷体_GB2312"/>
                <a:ea typeface="楷体_GB2312"/>
              </a:rPr>
              <a:t>人人都有烦恼，人人都面临挫折，那种没有烦恼和挫折的生活，根本是一种幻想和自欺欺人的说法。追求那种没有挫折的生活，只有徒耗生命而已。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1116000" y="2187720"/>
            <a:ext cx="3600360" cy="647640"/>
            <a:chOff x="1116000" y="2187720"/>
            <a:chExt cx="3600360" cy="647640"/>
          </a:xfrm>
        </p:grpSpPr>
        <p:sp>
          <p:nvSpPr>
            <p:cNvPr id="416" name=""/>
            <p:cNvSpPr/>
            <p:nvPr/>
          </p:nvSpPr>
          <p:spPr>
            <a:xfrm>
              <a:off x="1116000" y="2187720"/>
              <a:ext cx="360036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9eff"/>
                </a:gs>
                <a:gs pos="50000">
                  <a:srgbClr val="ffebfa"/>
                </a:gs>
                <a:gs pos="100000">
                  <a:srgbClr val="5e9eff"/>
                </a:gs>
              </a:gsLst>
              <a:lin ang="5400000"/>
            </a:gra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116000" y="2259360"/>
              <a:ext cx="36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黑体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40458c"/>
                  </a:solidFill>
                  <a:latin typeface="黑体"/>
                  <a:ea typeface="黑体"/>
                </a:rPr>
                <a:t>、每次挫折都会过去</a:t>
              </a:r>
              <a:r>
                <a:rPr b="0" lang="zh-CN" sz="1800" spc="-1" strike="noStrike">
                  <a:solidFill>
                    <a:srgbClr val="40458c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4861080" y="2259000"/>
            <a:ext cx="718920" cy="503280"/>
          </a:xfrm>
          <a:custGeom>
            <a:avLst/>
            <a:gdLst>
              <a:gd name="textAreaLeft" fmla="*/ 89640 w 718920"/>
              <a:gd name="textAreaRight" fmla="*/ 629280 w 71892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1116000" y="2997360"/>
            <a:ext cx="3600360" cy="647640"/>
            <a:chOff x="1116000" y="2997360"/>
            <a:chExt cx="3600360" cy="647640"/>
          </a:xfrm>
        </p:grpSpPr>
        <p:sp>
          <p:nvSpPr>
            <p:cNvPr id="420" name=""/>
            <p:cNvSpPr/>
            <p:nvPr/>
          </p:nvSpPr>
          <p:spPr>
            <a:xfrm>
              <a:off x="1116000" y="2997360"/>
              <a:ext cx="360036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9eff"/>
                </a:gs>
                <a:gs pos="50000">
                  <a:srgbClr val="ffebfa"/>
                </a:gs>
                <a:gs pos="100000">
                  <a:srgbClr val="5e9eff"/>
                </a:gs>
              </a:gsLst>
              <a:lin ang="5400000"/>
            </a:gra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116000" y="3069000"/>
              <a:ext cx="36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黑体"/>
                  <a:ea typeface="黑体"/>
                </a:rPr>
                <a:t>3</a:t>
              </a:r>
              <a:r>
                <a:rPr b="1" lang="zh-CN" sz="2400" spc="-1" strike="noStrike">
                  <a:solidFill>
                    <a:srgbClr val="40458c"/>
                  </a:solidFill>
                  <a:latin typeface="黑体"/>
                  <a:ea typeface="黑体"/>
                </a:rPr>
                <a:t>、每次挫折都有转折点</a:t>
              </a:r>
              <a:r>
                <a:rPr b="0" lang="zh-CN" sz="1800" spc="-1" strike="noStrike">
                  <a:solidFill>
                    <a:srgbClr val="40458c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4861080" y="3051000"/>
            <a:ext cx="718920" cy="503280"/>
          </a:xfrm>
          <a:custGeom>
            <a:avLst/>
            <a:gdLst>
              <a:gd name="textAreaLeft" fmla="*/ 89640 w 718920"/>
              <a:gd name="textAreaRight" fmla="*/ 629280 w 71892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116000" y="3772080"/>
            <a:ext cx="3600360" cy="822240"/>
            <a:chOff x="1116000" y="3772080"/>
            <a:chExt cx="3600360" cy="822240"/>
          </a:xfrm>
        </p:grpSpPr>
        <p:sp>
          <p:nvSpPr>
            <p:cNvPr id="424" name=""/>
            <p:cNvSpPr/>
            <p:nvPr/>
          </p:nvSpPr>
          <p:spPr>
            <a:xfrm>
              <a:off x="1116000" y="3803760"/>
              <a:ext cx="3600360" cy="790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9eff"/>
                </a:gs>
                <a:gs pos="50000">
                  <a:srgbClr val="ffebfa"/>
                </a:gs>
                <a:gs pos="100000">
                  <a:srgbClr val="5e9eff"/>
                </a:gs>
              </a:gsLst>
              <a:lin ang="5400000"/>
            </a:gra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116000" y="3772080"/>
              <a:ext cx="36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黑体"/>
                  <a:ea typeface="黑体"/>
                </a:rPr>
                <a:t>4</a:t>
              </a:r>
              <a:r>
                <a:rPr b="1" lang="zh-CN" sz="2400" spc="-1" strike="noStrike">
                  <a:solidFill>
                    <a:srgbClr val="40458c"/>
                  </a:solidFill>
                  <a:latin typeface="黑体"/>
                  <a:ea typeface="黑体"/>
                </a:rPr>
                <a:t>、每次挫折都会对人产生影响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4859280" y="3914640"/>
            <a:ext cx="719280" cy="503280"/>
          </a:xfrm>
          <a:custGeom>
            <a:avLst/>
            <a:gdLst>
              <a:gd name="textAreaLeft" fmla="*/ 89640 w 719280"/>
              <a:gd name="textAreaRight" fmla="*/ 629640 w 71928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1116000" y="4797360"/>
            <a:ext cx="3600360" cy="647640"/>
            <a:chOff x="1116000" y="4797360"/>
            <a:chExt cx="3600360" cy="647640"/>
          </a:xfrm>
        </p:grpSpPr>
        <p:sp>
          <p:nvSpPr>
            <p:cNvPr id="428" name=""/>
            <p:cNvSpPr/>
            <p:nvPr/>
          </p:nvSpPr>
          <p:spPr>
            <a:xfrm>
              <a:off x="1116000" y="4797360"/>
              <a:ext cx="360036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9eff"/>
                </a:gs>
                <a:gs pos="50000">
                  <a:srgbClr val="ffebfa"/>
                </a:gs>
                <a:gs pos="100000">
                  <a:srgbClr val="5e9eff"/>
                </a:gs>
              </a:gsLst>
              <a:lin ang="5400000"/>
            </a:gra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116000" y="4869000"/>
              <a:ext cx="36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黑体"/>
                  <a:ea typeface="黑体"/>
                </a:rPr>
                <a:t>5</a:t>
              </a:r>
              <a:r>
                <a:rPr b="1" lang="zh-CN" sz="2400" spc="-1" strike="noStrike">
                  <a:solidFill>
                    <a:srgbClr val="40458c"/>
                  </a:solidFill>
                  <a:latin typeface="黑体"/>
                  <a:ea typeface="黑体"/>
                </a:rPr>
                <a:t>、不要盯住挫折不放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4861080" y="4851360"/>
            <a:ext cx="718920" cy="503280"/>
          </a:xfrm>
          <a:custGeom>
            <a:avLst/>
            <a:gdLst>
              <a:gd name="textAreaLeft" fmla="*/ 89640 w 718920"/>
              <a:gd name="textAreaRight" fmla="*/ 629280 w 71892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651640" y="2266920"/>
            <a:ext cx="158256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Verdana"/>
                <a:ea typeface="黑体"/>
              </a:rPr>
              <a:t>不要逃避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651640" y="4635360"/>
            <a:ext cx="158256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Verdana"/>
                <a:ea typeface="黑体"/>
              </a:rPr>
              <a:t>不要不能自拔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651640" y="3059280"/>
            <a:ext cx="158256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Verdana"/>
                <a:ea typeface="黑体"/>
              </a:rPr>
              <a:t>不要颓废</a:t>
            </a:r>
            <a:r>
              <a:rPr b="0" lang="zh-CN" sz="1800" spc="-1" strike="noStrike">
                <a:solidFill>
                  <a:srgbClr val="40458c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651640" y="3924360"/>
            <a:ext cx="158256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Verdana"/>
                <a:ea typeface="黑体"/>
              </a:rPr>
              <a:t>不要绝望</a:t>
            </a:r>
            <a:r>
              <a:rPr b="0" lang="zh-CN" sz="1800" spc="-1" strike="noStrike">
                <a:solidFill>
                  <a:srgbClr val="40458c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116000" y="5516640"/>
            <a:ext cx="6192720" cy="459720"/>
          </a:xfrm>
          <a:prstGeom prst="rect">
            <a:avLst/>
          </a:prstGeom>
          <a:noFill/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40458c"/>
                </a:solidFill>
                <a:latin typeface="黑体"/>
                <a:ea typeface="黑体"/>
              </a:rPr>
              <a:t>挫折如果已经发生，那就应当面对它，寻找解决的办法；如果挫折已经过去，那就应当丢开它，不要老是把它保留在记忆里。</a:t>
            </a:r>
            <a:r>
              <a:rPr b="1" lang="zh-CN" sz="1800" spc="-1" strike="noStrike">
                <a:solidFill>
                  <a:srgbClr val="40458c"/>
                </a:solidFill>
                <a:latin typeface="黑体"/>
                <a:ea typeface="黑体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其实：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advTm="2000">
    <p:plus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77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770" fill="hold"/>
                                        <p:tgtEl>
                                          <p:spTgt spid="4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9" dur="77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13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9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17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21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24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27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395280" y="333360"/>
            <a:ext cx="2448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说一说：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9" name=""/>
          <p:cNvSpPr/>
          <p:nvPr/>
        </p:nvSpPr>
        <p:spPr>
          <a:xfrm>
            <a:off x="3276720" y="54936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7c80"/>
                </a:solidFill>
                <a:latin typeface="Tahoma"/>
                <a:ea typeface="华文行楷"/>
              </a:rPr>
              <a:t>你能说说勇于战胜挫折的人和事吗？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55640" y="2421000"/>
            <a:ext cx="23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58c"/>
                </a:solidFill>
                <a:latin typeface="Arial"/>
                <a:ea typeface="华文彩云"/>
              </a:rPr>
              <a:t>   </a:t>
            </a:r>
            <a:r>
              <a:rPr b="1" lang="zh-CN" sz="4400" spc="-1" strike="noStrike">
                <a:solidFill>
                  <a:srgbClr val="40458c"/>
                </a:solidFill>
                <a:latin typeface="Arial"/>
                <a:ea typeface="华文彩云"/>
              </a:rPr>
              <a:t>你说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41" name="" descr="Rectangle: Click to edit Master text styles&#13;&#10;Second level&#13;&#10;Third level&#13;&#10;Fourth level&#13;&#10;Fifth level"/>
          <p:cNvPicPr/>
          <p:nvPr/>
        </p:nvPicPr>
        <p:blipFill>
          <a:blip r:embed="rId2"/>
          <a:stretch/>
        </p:blipFill>
        <p:spPr>
          <a:xfrm>
            <a:off x="3772080" y="2127240"/>
            <a:ext cx="2108160" cy="198756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6372360" y="2421000"/>
            <a:ext cx="18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58c"/>
                </a:solidFill>
                <a:latin typeface="Arial"/>
                <a:ea typeface="华文彩云"/>
              </a:rPr>
              <a:t> </a:t>
            </a:r>
            <a:r>
              <a:rPr b="1" lang="zh-CN" sz="4400" spc="-1" strike="noStrike">
                <a:solidFill>
                  <a:srgbClr val="40458c"/>
                </a:solidFill>
                <a:latin typeface="Arial"/>
                <a:ea typeface="华文彩云"/>
              </a:rPr>
              <a:t>我说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3"/>
          <a:stretch/>
        </p:blipFill>
        <p:spPr>
          <a:xfrm>
            <a:off x="971640" y="4149720"/>
            <a:ext cx="2190600" cy="219060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3628800" y="4292640"/>
            <a:ext cx="15210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58c"/>
                </a:solidFill>
                <a:latin typeface="Arial"/>
                <a:ea typeface="华文彩云"/>
              </a:rPr>
              <a:t>大家说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4"/>
          <a:stretch/>
        </p:blipFill>
        <p:spPr>
          <a:xfrm>
            <a:off x="6156360" y="4076640"/>
            <a:ext cx="2190600" cy="21909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韩国四指钢琴家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——</a:t>
            </a:r>
            <a:r>
              <a:rPr b="0" lang="zh-CN" sz="4400" spc="-1" strike="noStrike">
                <a:solidFill>
                  <a:srgbClr val="ff7c80"/>
                </a:solidFill>
                <a:latin typeface="Tahoma"/>
                <a:ea typeface="楷体_GB2312"/>
              </a:rPr>
              <a:t>李喜牙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3810240" cy="411480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755640" y="1989000"/>
            <a:ext cx="3529080" cy="439272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3"/>
          <a:stretch/>
        </p:blipFill>
        <p:spPr>
          <a:xfrm>
            <a:off x="4643280" y="1773360"/>
            <a:ext cx="3672000" cy="4535280"/>
          </a:xfrm>
          <a:prstGeom prst="rect">
            <a:avLst/>
          </a:prstGeom>
          <a:ln w="0">
            <a:noFill/>
          </a:ln>
        </p:spPr>
      </p:pic>
    </p:spTree>
  </p:cSld>
  <p:transition advTm="2000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345440" cy="547236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7236000" y="623736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李喜牙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p:transition advTm="2000">
    <p:plus/>
  </p:transition>
  <p:timing>
    <p:tnLst>
      <p:par>
        <p:cTn id="310" dur="indefinite" restart="never" nodeType="tmRoot">
          <p:childTnLst>
            <p:seq>
              <p:cTn id="311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5" dur="1" fill="hold"/>
                                        <p:tgtEl>
                                          <p:spTgt spid="4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4788000" y="468360"/>
            <a:ext cx="3816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贝多芬，一生遭到数不清的磨难。挫折磨砺了他的意志，激发了他的进取精神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他发出了“要扼住命运的咽喉”的坚强呼声，终于创作出《第九交响曲》等辉煌作品，获得了极大的成功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1447920" y="5410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4340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4284720" y="333000"/>
            <a:ext cx="4572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  <a:ea typeface="楷体_GB2312"/>
              </a:rPr>
              <a:t>有一个人，在他二十一岁时，做生意失败；二十二岁时，角逐美国州议员落选；二十四岁时，做生意再度失败；二十六岁时，他的情人离开人间；二十七岁时，一度精神崩溃；三十四岁时，角逐美国联邦众议员再度落选；四十五岁时，角逐美国联邦参议员落选；四十七岁时，提名副总统落选；四十九岁时，角逐美国联邦参议员再度落选。然而，就是这样一个屡战屡败的人，在他五十二岁时，当选美国第十六任总统！　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  <a:ea typeface="楷体_GB2312"/>
              </a:rPr>
              <a:t>这个人就是林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3"/>
          <a:stretch/>
        </p:blipFill>
        <p:spPr>
          <a:xfrm>
            <a:off x="0" y="333360"/>
            <a:ext cx="4248000" cy="6048360"/>
          </a:xfrm>
          <a:prstGeom prst="rect">
            <a:avLst/>
          </a:prstGeom>
          <a:ln w="0">
            <a:noFill/>
          </a:ln>
        </p:spPr>
      </p:pic>
    </p:spTree>
  </p:cSld>
  <p:transition advTm="2000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4549680" y="620640"/>
            <a:ext cx="4343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Arial Unicode MS"/>
                <a:ea typeface="黑体"/>
              </a:rPr>
              <a:t>     </a:t>
            </a:r>
            <a:r>
              <a:rPr b="1" lang="zh-CN" sz="2800" spc="-1" strike="noStrike">
                <a:solidFill>
                  <a:srgbClr val="40458c"/>
                </a:solidFill>
                <a:latin typeface="Arial Unicode MS"/>
                <a:ea typeface="黑体"/>
              </a:rPr>
              <a:t>海伦凯勒，出生不久就因一场来得突然的脑炎，使她完全丧失了视觉和听觉。同时也失去了说话的能力</a:t>
            </a:r>
            <a:r>
              <a:rPr b="1" lang="zh-CN" sz="2400" spc="-1" strike="noStrike">
                <a:solidFill>
                  <a:srgbClr val="40458c"/>
                </a:solidFill>
                <a:latin typeface="Arial Unicode MS"/>
                <a:ea typeface="黑体"/>
              </a:rPr>
              <a:t>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458c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40458c"/>
                </a:solidFill>
                <a:latin typeface="黑体"/>
                <a:ea typeface="黑体"/>
              </a:rPr>
              <a:t>在自己的努力和家人、沙文利老师的帮助下，她后来不但能读、能写、能讲更成为全球家喻户晓的伟大作家。  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3059280" y="501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152280" y="304920"/>
            <a:ext cx="4348440" cy="5790960"/>
          </a:xfrm>
          <a:prstGeom prst="rect">
            <a:avLst/>
          </a:prstGeom>
          <a:ln w="0">
            <a:noFill/>
          </a:ln>
        </p:spPr>
      </p:pic>
    </p:spTree>
  </p:cSld>
  <p:transition advTm="2000"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3276720" y="6324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2120" y="64008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0" y="628560"/>
            <a:ext cx="43210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458c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40458c"/>
                </a:solidFill>
                <a:latin typeface="Tahoma"/>
              </a:rPr>
              <a:t>张海迪，三分之二的身体失去部分知觉和功能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458c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40458c"/>
                </a:solidFill>
                <a:latin typeface="Tahoma"/>
              </a:rPr>
              <a:t>她奋起自学成才，出版了长篇小说《轮椅上的梦》等作品。她自学了英、日、德和世界语，刻苦钻研医学知识和针灸技术，为群众治病达一万余人次。。。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343400" cy="6934320"/>
          </a:xfrm>
          <a:prstGeom prst="rect">
            <a:avLst/>
          </a:prstGeom>
          <a:ln w="0">
            <a:noFill/>
          </a:ln>
        </p:spPr>
      </p:pic>
    </p:spTree>
  </p:cSld>
  <p:transition advTm="2000"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5364000" y="452520"/>
            <a:ext cx="3384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ahoma"/>
              </a:rPr>
              <a:t>挫折：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1963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年被诊断出肌萎缩性侧索硬化症。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1985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年失去语言能力，使用带语音合成器的计算机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奋起：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出版了《空时的大型结构》、《时间简史》等科学著作。宣布发现黑洞辐射，成为世界上著名的科学家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3059280" y="5157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179280" y="533520"/>
            <a:ext cx="4800600" cy="5559480"/>
          </a:xfrm>
          <a:prstGeom prst="rect">
            <a:avLst/>
          </a:prstGeom>
          <a:ln w="0">
            <a:noFill/>
          </a:ln>
        </p:spPr>
      </p:pic>
    </p:spTree>
  </p:cSld>
  <p:transition advTm="2000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723960" y="1249200"/>
            <a:ext cx="76960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下面是一些你曾经遇到过的问题，根据下列所标出的挫折感等级，请你在相应的等级上画勾。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                                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没有挫折感      有点       一般         较多         极大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。与朋友翻脸                 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1                  2             3              4                5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。考试不理想                 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1                  2             3              4                5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。家长不理解                 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1                  2             3              4                5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。受老师冤枉                 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1                  2             3              4                5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。无故被人欺负             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1                  2             3              4                5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。丢失心爱的东西         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1                  2             3              4                5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7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。其它                             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1                  2             3              4                5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3886200" cy="65088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684360" y="595008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f89f7"/>
                </a:solidFill>
                <a:uFillTx/>
                <a:latin typeface="Tahoma"/>
                <a:hlinkClick r:id="rId2" action="ppaction://hlinksldjump"/>
              </a:rPr>
              <a:t>7——1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635280" y="595008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f89f7"/>
                </a:solidFill>
                <a:uFillTx/>
                <a:latin typeface="Tahoma"/>
                <a:hlinkClick r:id="rId3" action="ppaction://hlinksldjump"/>
              </a:rPr>
              <a:t>15——2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477120" y="594360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f89f7"/>
                </a:solidFill>
                <a:uFillTx/>
                <a:latin typeface="Tahoma"/>
                <a:hlinkClick r:id="rId4" action="ppaction://hlinksldjump"/>
              </a:rPr>
              <a:t>22——35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7" name="">
            <a:hlinkClick r:id="rId5" action="ppaction://hlinksldjump"/>
          </p:cNvPr>
          <p:cNvSpPr/>
          <p:nvPr/>
        </p:nvSpPr>
        <p:spPr>
          <a:xfrm>
            <a:off x="5292720" y="40464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华文彩云"/>
              </a:rPr>
              <a:t>心理测试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40458c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advTm="2000">
    <p:plus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573408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573408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1547640" y="5950080"/>
            <a:ext cx="63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ahoma"/>
                <a:ea typeface="华文行楷"/>
              </a:rPr>
              <a:t>中华飞天第一人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华文行楷"/>
              </a:rPr>
              <a:t>----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华文新魏"/>
              </a:rPr>
              <a:t>杨利伟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advTm="2000">
    <p:plus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89e8f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4381560" y="260280"/>
            <a:ext cx="47624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58c"/>
                </a:solidFill>
                <a:latin typeface="Tahoma"/>
                <a:ea typeface="华文行楷"/>
              </a:rPr>
              <a:t>       </a:t>
            </a: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杨利伟从小立志当飞行员，为实现理想，从读初二开始，他刻苦锻炼，终于练出一个合格的体魄。在接到命令后，杨利伟接受了载荷、失重、野外生存等训魔鬼般的训练，以他坚强的意志克服了种种困难和挫折，最后成为中华飞天第一人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4340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plus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927320" y="12960"/>
            <a:ext cx="3454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4500720" y="0"/>
            <a:ext cx="5508360" cy="685800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Rectangle: Click to edit Master text styles&#13;&#10;Second level&#13;&#10;Third level&#13;&#10;Fourth level&#13;&#10;Fifth level"/>
          <p:cNvPicPr/>
          <p:nvPr/>
        </p:nvPicPr>
        <p:blipFill>
          <a:blip r:embed="rId2"/>
          <a:stretch/>
        </p:blipFill>
        <p:spPr>
          <a:xfrm>
            <a:off x="0" y="260280"/>
            <a:ext cx="4643280" cy="6308640"/>
          </a:xfrm>
          <a:prstGeom prst="rect">
            <a:avLst/>
          </a:prstGeom>
          <a:ln w="0">
            <a:noFill/>
          </a:ln>
        </p:spPr>
      </p:pic>
    </p:spTree>
  </p:cSld>
  <p:transition advTm="2000">
    <p:plus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plus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4859280" y="3409920"/>
            <a:ext cx="3809880" cy="344808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3"/>
          <a:stretch/>
        </p:blipFill>
        <p:spPr>
          <a:xfrm>
            <a:off x="0" y="3319560"/>
            <a:ext cx="4716360" cy="353844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4"/>
          <a:stretch/>
        </p:blipFill>
        <p:spPr>
          <a:xfrm>
            <a:off x="4356000" y="0"/>
            <a:ext cx="4788000" cy="339264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5"/>
          <a:stretch/>
        </p:blipFill>
        <p:spPr>
          <a:xfrm>
            <a:off x="826920" y="549360"/>
            <a:ext cx="2880000" cy="216036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6"/>
          <a:stretch/>
        </p:blipFill>
        <p:spPr>
          <a:xfrm>
            <a:off x="5334120" y="3409920"/>
            <a:ext cx="3809880" cy="344808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7"/>
          <a:stretch/>
        </p:blipFill>
        <p:spPr>
          <a:xfrm>
            <a:off x="1979640" y="476280"/>
            <a:ext cx="4753080" cy="5446800"/>
          </a:xfrm>
          <a:prstGeom prst="rect">
            <a:avLst/>
          </a:prstGeom>
          <a:ln w="0">
            <a:noFill/>
          </a:ln>
        </p:spPr>
      </p:pic>
    </p:spTree>
  </p:cSld>
  <p:transition advTm="2000">
    <p:plus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42920" y="1557000"/>
            <a:ext cx="6400800" cy="215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omic Sans MS"/>
              </a:rPr>
              <a:t>我们该如何正确面对挫折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5940360" y="4221000"/>
            <a:ext cx="2857680" cy="2381400"/>
          </a:xfrm>
          <a:prstGeom prst="rect">
            <a:avLst/>
          </a:prstGeom>
          <a:ln w="0">
            <a:noFill/>
          </a:ln>
        </p:spPr>
      </p:pic>
    </p:spTree>
  </p:cSld>
  <p:transition advTm="2000">
    <p:plus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Tahoma"/>
              </a:rPr>
              <a:t>当遇到挫折时：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4" name=""/>
          <p:cNvSpPr/>
          <p:nvPr/>
        </p:nvSpPr>
        <p:spPr>
          <a:xfrm>
            <a:off x="1116000" y="3699000"/>
            <a:ext cx="6192720" cy="459720"/>
          </a:xfrm>
          <a:prstGeom prst="rect">
            <a:avLst/>
          </a:prstGeom>
          <a:noFill/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ahoma"/>
                <a:ea typeface="华文行楷"/>
              </a:rPr>
              <a:t>转移自己的视线，遭受挫折后，一般人都会感觉度日如年，这时，可以通过自己喜爱的集邮、写作、书法、美术、音乐、舞蹈、体育锻炼等方式，使情绪得以调节，情感得以升华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116000" y="2971800"/>
            <a:ext cx="6192720" cy="459720"/>
          </a:xfrm>
          <a:prstGeom prst="rect">
            <a:avLst/>
          </a:prstGeom>
          <a:noFill/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ahoma"/>
                <a:ea typeface="华文行楷"/>
              </a:rPr>
              <a:t>分散挫折的压力，不要把痛苦闷在心里，应当主动向老师、同学或亲友倾诉，争取别人的谅解、同情与帮助，这样可以减轻挫折感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华文行楷"/>
              </a:rPr>
              <a:t>,</a:t>
            </a:r>
            <a:r>
              <a:rPr b="1" lang="zh-CN" sz="2400" spc="-1" strike="noStrike">
                <a:solidFill>
                  <a:srgbClr val="40458c"/>
                </a:solidFill>
                <a:latin typeface="Tahoma"/>
                <a:ea typeface="华文行楷"/>
              </a:rPr>
              <a:t>增强克服挫折的信心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1116000" y="1395360"/>
            <a:ext cx="3600360" cy="647640"/>
            <a:chOff x="1116000" y="1395360"/>
            <a:chExt cx="3600360" cy="647640"/>
          </a:xfrm>
        </p:grpSpPr>
        <p:sp>
          <p:nvSpPr>
            <p:cNvPr id="497" name=""/>
            <p:cNvSpPr/>
            <p:nvPr/>
          </p:nvSpPr>
          <p:spPr>
            <a:xfrm>
              <a:off x="1116000" y="1395360"/>
              <a:ext cx="360036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9eff"/>
                </a:gs>
                <a:gs pos="50000">
                  <a:srgbClr val="ffebfa"/>
                </a:gs>
                <a:gs pos="100000">
                  <a:srgbClr val="5e9eff"/>
                </a:gs>
              </a:gsLst>
              <a:lin ang="5400000"/>
            </a:gra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116000" y="1467000"/>
              <a:ext cx="36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黑体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40458c"/>
                  </a:solidFill>
                  <a:latin typeface="黑体"/>
                  <a:ea typeface="黑体"/>
                </a:rPr>
                <a:t>、</a:t>
              </a:r>
              <a:r>
                <a:rPr b="1" lang="zh-CN" sz="2400" spc="-1" strike="noStrike">
                  <a:solidFill>
                    <a:srgbClr val="40458c"/>
                  </a:solidFill>
                  <a:latin typeface="Tahoma"/>
                  <a:ea typeface="华文行楷"/>
                </a:rPr>
                <a:t>正视挫折，认真分析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1116000" y="2114640"/>
            <a:ext cx="6192720" cy="825480"/>
          </a:xfrm>
          <a:prstGeom prst="rect">
            <a:avLst/>
          </a:prstGeom>
          <a:noFill/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ahoma"/>
                <a:ea typeface="华文行楷"/>
              </a:rPr>
              <a:t>分析挫折产生的主客观原因，正确对待挫折，不仅可以克服和消除挫折，而且还可以磨炼自己的意志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1116000" y="2187720"/>
            <a:ext cx="3600360" cy="647640"/>
            <a:chOff x="1116000" y="2187720"/>
            <a:chExt cx="3600360" cy="647640"/>
          </a:xfrm>
        </p:grpSpPr>
        <p:sp>
          <p:nvSpPr>
            <p:cNvPr id="501" name=""/>
            <p:cNvSpPr/>
            <p:nvPr/>
          </p:nvSpPr>
          <p:spPr>
            <a:xfrm>
              <a:off x="1116000" y="2187720"/>
              <a:ext cx="360036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9eff"/>
                </a:gs>
                <a:gs pos="50000">
                  <a:srgbClr val="ffebfa"/>
                </a:gs>
                <a:gs pos="100000">
                  <a:srgbClr val="5e9eff"/>
                </a:gs>
              </a:gsLst>
              <a:lin ang="5400000"/>
            </a:gra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116000" y="2259360"/>
              <a:ext cx="36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黑体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40458c"/>
                  </a:solidFill>
                  <a:latin typeface="黑体"/>
                  <a:ea typeface="黑体"/>
                </a:rPr>
                <a:t>、</a:t>
              </a:r>
              <a:r>
                <a:rPr b="1" lang="zh-CN" sz="2400" spc="-1" strike="noStrike">
                  <a:solidFill>
                    <a:srgbClr val="40458c"/>
                  </a:solidFill>
                  <a:latin typeface="Tahoma"/>
                  <a:ea typeface="华文行楷"/>
                </a:rPr>
                <a:t>学会宣泄，摆脱压力</a:t>
              </a:r>
              <a:r>
                <a:rPr b="0" lang="zh-CN" sz="2400" spc="-1" strike="noStrike">
                  <a:solidFill>
                    <a:srgbClr val="40458c"/>
                  </a:solidFill>
                  <a:latin typeface="Tahoma"/>
                  <a:ea typeface="华文行楷"/>
                </a:rPr>
                <a:t>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1116000" y="2979720"/>
            <a:ext cx="3600360" cy="647640"/>
            <a:chOff x="1116000" y="2979720"/>
            <a:chExt cx="3600360" cy="647640"/>
          </a:xfrm>
        </p:grpSpPr>
        <p:sp>
          <p:nvSpPr>
            <p:cNvPr id="504" name=""/>
            <p:cNvSpPr/>
            <p:nvPr/>
          </p:nvSpPr>
          <p:spPr>
            <a:xfrm>
              <a:off x="1116000" y="2979720"/>
              <a:ext cx="360036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9eff"/>
                </a:gs>
                <a:gs pos="50000">
                  <a:srgbClr val="ffebfa"/>
                </a:gs>
                <a:gs pos="100000">
                  <a:srgbClr val="5e9eff"/>
                </a:gs>
              </a:gsLst>
              <a:lin ang="5400000"/>
            </a:gra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116000" y="3051360"/>
              <a:ext cx="36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黑体"/>
                  <a:ea typeface="黑体"/>
                </a:rPr>
                <a:t>3</a:t>
              </a:r>
              <a:r>
                <a:rPr b="1" lang="zh-CN" sz="2400" spc="-1" strike="noStrike">
                  <a:solidFill>
                    <a:srgbClr val="40458c"/>
                  </a:solidFill>
                  <a:latin typeface="Tahoma"/>
                  <a:ea typeface="华文行楷"/>
                </a:rPr>
                <a:t>情绪转移，寻求升华</a:t>
              </a:r>
              <a:r>
                <a:rPr b="0" lang="zh-CN" sz="2400" spc="-1" strike="noStrike">
                  <a:solidFill>
                    <a:srgbClr val="40458c"/>
                  </a:solidFill>
                  <a:latin typeface="Tahoma"/>
                  <a:ea typeface="华文行楷"/>
                </a:rPr>
                <a:t>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1792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advTm="2000">
    <p:plus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39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9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41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8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43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Tahoma"/>
              </a:rPr>
              <a:t>当遇到挫折时：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116000" y="3699000"/>
            <a:ext cx="6192720" cy="459720"/>
          </a:xfrm>
          <a:prstGeom prst="rect">
            <a:avLst/>
          </a:prstGeom>
          <a:noFill/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ahoma"/>
                <a:ea typeface="华文行楷"/>
              </a:rPr>
              <a:t>当你遇到挫折时，要勇往直前。你的既定目标不变，努力的程度加倍。那么很快，迎接你的就将是成功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  <a:ea typeface="华文行楷"/>
              </a:rPr>
              <a:t>了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116000" y="2971800"/>
            <a:ext cx="6192720" cy="459720"/>
          </a:xfrm>
          <a:prstGeom prst="rect">
            <a:avLst/>
          </a:prstGeom>
          <a:noFill/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ahoma"/>
                <a:ea typeface="华文行楷"/>
              </a:rPr>
              <a:t>当你受挫时先静下心来把可能产生的原因寻找出来，再寻求解决问题的方法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1116000" y="1413000"/>
            <a:ext cx="3600360" cy="647640"/>
            <a:chOff x="1116000" y="1413000"/>
            <a:chExt cx="3600360" cy="647640"/>
          </a:xfrm>
        </p:grpSpPr>
        <p:sp>
          <p:nvSpPr>
            <p:cNvPr id="512" name=""/>
            <p:cNvSpPr/>
            <p:nvPr/>
          </p:nvSpPr>
          <p:spPr>
            <a:xfrm>
              <a:off x="1116000" y="1413000"/>
              <a:ext cx="360036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9eff"/>
                </a:gs>
                <a:gs pos="50000">
                  <a:srgbClr val="ffebfa"/>
                </a:gs>
                <a:gs pos="100000">
                  <a:srgbClr val="5e9eff"/>
                </a:gs>
              </a:gsLst>
              <a:lin ang="5400000"/>
            </a:gra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116000" y="1484640"/>
              <a:ext cx="36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黑体"/>
                  <a:ea typeface="黑体"/>
                </a:rPr>
                <a:t>4</a:t>
              </a:r>
              <a:r>
                <a:rPr b="1" lang="zh-CN" sz="2400" spc="-1" strike="noStrike">
                  <a:solidFill>
                    <a:srgbClr val="40458c"/>
                  </a:solidFill>
                  <a:latin typeface="黑体"/>
                  <a:ea typeface="黑体"/>
                </a:rPr>
                <a:t>、</a:t>
              </a:r>
              <a:r>
                <a:rPr b="0" lang="zh-CN" sz="2400" spc="-1" strike="noStrike">
                  <a:solidFill>
                    <a:srgbClr val="660066"/>
                  </a:solidFill>
                  <a:latin typeface="Tahoma"/>
                  <a:ea typeface="华文行楷"/>
                </a:rPr>
                <a:t>学会幽默，自我解嘲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1042920" y="2133720"/>
            <a:ext cx="6193080" cy="1633320"/>
          </a:xfrm>
          <a:prstGeom prst="rect">
            <a:avLst/>
          </a:prstGeom>
          <a:noFill/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ahoma"/>
                <a:ea typeface="华文行楷"/>
              </a:rPr>
              <a:t>“</a:t>
            </a:r>
            <a:r>
              <a:rPr b="1" lang="zh-CN" sz="2400" spc="-1" strike="noStrike">
                <a:solidFill>
                  <a:srgbClr val="40458c"/>
                </a:solidFill>
                <a:latin typeface="Tahoma"/>
                <a:ea typeface="华文行楷"/>
              </a:rPr>
              <a:t>幽默”和“自嘲”是宣泄积郁、平衡心态、制造快乐的良方。当你遭受挫折时，不妨采用阿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华文行楷"/>
              </a:rPr>
              <a:t>Q</a:t>
            </a:r>
            <a:r>
              <a:rPr b="1" lang="zh-CN" sz="2400" spc="-1" strike="noStrike">
                <a:solidFill>
                  <a:srgbClr val="40458c"/>
                </a:solidFill>
                <a:latin typeface="Tahoma"/>
                <a:ea typeface="华文行楷"/>
              </a:rPr>
              <a:t>的精神胜利法，比如“吃亏是福”“破财免灾”“有失有得”等等来调节一下你失衡的心理。或者“难得糊涂”，冷静看待挫折，用幽默的方法调整心态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1116000" y="2187720"/>
            <a:ext cx="3600360" cy="647640"/>
            <a:chOff x="1116000" y="2187720"/>
            <a:chExt cx="3600360" cy="647640"/>
          </a:xfrm>
        </p:grpSpPr>
        <p:sp>
          <p:nvSpPr>
            <p:cNvPr id="516" name=""/>
            <p:cNvSpPr/>
            <p:nvPr/>
          </p:nvSpPr>
          <p:spPr>
            <a:xfrm>
              <a:off x="1116000" y="2187720"/>
              <a:ext cx="360036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9eff"/>
                </a:gs>
                <a:gs pos="50000">
                  <a:srgbClr val="ffebfa"/>
                </a:gs>
                <a:gs pos="100000">
                  <a:srgbClr val="5e9eff"/>
                </a:gs>
              </a:gsLst>
              <a:lin ang="5400000"/>
            </a:gra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116000" y="2259360"/>
              <a:ext cx="36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黑体"/>
                  <a:ea typeface="黑体"/>
                </a:rPr>
                <a:t>5</a:t>
              </a:r>
              <a:r>
                <a:rPr b="1" lang="zh-CN" sz="2400" spc="-1" strike="noStrike">
                  <a:solidFill>
                    <a:srgbClr val="40458c"/>
                  </a:solidFill>
                  <a:latin typeface="黑体"/>
                  <a:ea typeface="黑体"/>
                </a:rPr>
                <a:t>、</a:t>
              </a:r>
              <a:r>
                <a:rPr b="0" lang="zh-CN" sz="2400" spc="-1" strike="noStrike">
                  <a:solidFill>
                    <a:srgbClr val="660066"/>
                  </a:solidFill>
                  <a:latin typeface="Tahoma"/>
                  <a:ea typeface="华文行楷"/>
                </a:rPr>
                <a:t>寻找原因，理清思路</a:t>
              </a:r>
              <a:r>
                <a:rPr b="0" lang="zh-CN" sz="2400" spc="-1" strike="noStrike">
                  <a:solidFill>
                    <a:srgbClr val="40458c"/>
                  </a:solidFill>
                  <a:latin typeface="Tahoma"/>
                  <a:ea typeface="华文行楷"/>
                </a:rPr>
                <a:t>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1116000" y="2979720"/>
            <a:ext cx="3600360" cy="647640"/>
            <a:chOff x="1116000" y="2979720"/>
            <a:chExt cx="3600360" cy="647640"/>
          </a:xfrm>
        </p:grpSpPr>
        <p:sp>
          <p:nvSpPr>
            <p:cNvPr id="519" name=""/>
            <p:cNvSpPr/>
            <p:nvPr/>
          </p:nvSpPr>
          <p:spPr>
            <a:xfrm>
              <a:off x="1116000" y="2979720"/>
              <a:ext cx="360036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9eff"/>
                </a:gs>
                <a:gs pos="50000">
                  <a:srgbClr val="ffebfa"/>
                </a:gs>
                <a:gs pos="100000">
                  <a:srgbClr val="5e9eff"/>
                </a:gs>
              </a:gsLst>
              <a:lin ang="5400000"/>
            </a:gra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116000" y="3051360"/>
              <a:ext cx="36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黑体"/>
                  <a:ea typeface="黑体"/>
                </a:rPr>
                <a:t>6</a:t>
              </a:r>
              <a:r>
                <a:rPr b="1" lang="zh-CN" sz="2400" spc="-1" strike="noStrike">
                  <a:solidFill>
                    <a:srgbClr val="40458c"/>
                  </a:solidFill>
                  <a:latin typeface="黑体"/>
                  <a:ea typeface="黑体"/>
                </a:rPr>
                <a:t>、</a:t>
              </a:r>
              <a:r>
                <a:rPr b="0" lang="zh-CN" sz="2400" spc="-1" strike="noStrike">
                  <a:solidFill>
                    <a:srgbClr val="660066"/>
                  </a:solidFill>
                  <a:latin typeface="Tahoma"/>
                  <a:ea typeface="华文行楷"/>
                </a:rPr>
                <a:t>再接再厉，锲而不舍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advTm="2000">
    <p:plus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8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45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9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8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47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49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84360" y="350028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2c408"/>
                </a:solidFill>
                <a:latin typeface="Times New Roman"/>
              </a:rPr>
              <a:t>这次月考失利了，接下来我应该</a:t>
            </a:r>
            <a:r>
              <a:rPr b="1" lang="en-US" sz="4000" spc="-1" strike="noStrike">
                <a:solidFill>
                  <a:srgbClr val="42c408"/>
                </a:solidFill>
                <a:latin typeface="Times New Roman"/>
              </a:rPr>
              <a:t>……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780000" y="981000"/>
            <a:ext cx="3657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2c408"/>
                </a:solidFill>
                <a:latin typeface="Times New Roman"/>
                <a:ea typeface="华文隶书"/>
              </a:rPr>
              <a:t>我来说说</a:t>
            </a: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3"/>
          <a:stretch/>
        </p:blipFill>
        <p:spPr>
          <a:xfrm>
            <a:off x="6156360" y="4149720"/>
            <a:ext cx="2495520" cy="2467080"/>
          </a:xfrm>
          <a:prstGeom prst="rect">
            <a:avLst/>
          </a:prstGeom>
          <a:ln w="0">
            <a:noFill/>
          </a:ln>
        </p:spPr>
      </p:pic>
    </p:spTree>
  </p:cSld>
  <p:transition advTm="2000">
    <p:plus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527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395280" y="404640"/>
            <a:ext cx="8280360" cy="5832720"/>
          </a:xfrm>
          <a:prstGeom prst="rect">
            <a:avLst/>
          </a:prstGeom>
          <a:ln w="0">
            <a:noFill/>
          </a:ln>
        </p:spPr>
      </p:pic>
    </p:spTree>
  </p:cSld>
  <p:transition advTm="2000">
    <p:plus/>
  </p:transition>
  <p:timing>
    <p:tnLst>
      <p:par>
        <p:cTn id="512" dur="indefinite" restart="never" nodeType="tmRoot">
          <p:childTnLst>
            <p:seq>
              <p:cTn id="513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514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17" dur="1" fill="hold"/>
                                        <p:tgtEl>
                                          <p:spTgt spid="5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250920" y="1341360"/>
            <a:ext cx="631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6064f"/>
                </a:solidFill>
                <a:latin typeface="Tahoma"/>
              </a:rPr>
              <a:t>7——14</a:t>
            </a:r>
            <a:r>
              <a:rPr b="1" lang="zh-CN" sz="3200" spc="-1" strike="noStrike">
                <a:solidFill>
                  <a:srgbClr val="c6064f"/>
                </a:solidFill>
                <a:latin typeface="Tahoma"/>
              </a:rPr>
              <a:t>：你是一个乐观开朗的孩子，遇到挫折不会给你带来太多的精神压力。但是，如果对事事都漫不在乎，不努力，将会很危险。培养进取心和责任心，会使你更加完美！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7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67640" y="5589720"/>
            <a:ext cx="1079640" cy="10080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40458c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advTm="2000">
    <p:plus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914400" y="595440"/>
            <a:ext cx="7848720" cy="23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660066"/>
                </a:solidFill>
                <a:latin typeface="Times New Roman"/>
                <a:ea typeface="黑体"/>
              </a:rPr>
              <a:t>        </a:t>
            </a:r>
            <a:r>
              <a:rPr b="0" lang="zh-CN" sz="5400" spc="-1" strike="noStrike">
                <a:solidFill>
                  <a:srgbClr val="660066"/>
                </a:solidFill>
                <a:latin typeface="Times New Roman"/>
                <a:ea typeface="黑体"/>
              </a:rPr>
              <a:t>世界上的事情永远不是绝对的，结果完全因人而异。苦难对于天才是一块垫脚石，对于弱者是一个万丈深渊。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66"/>
                </a:solidFill>
                <a:latin typeface="Times New Roman"/>
                <a:ea typeface="黑体"/>
              </a:rPr>
              <a:t>                        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黑体"/>
              </a:rPr>
              <a:t>——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黑体"/>
              </a:rPr>
              <a:t>巴尔扎克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advTm="2000">
    <p:plus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76360" y="2060280"/>
            <a:ext cx="6400800" cy="1292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Comic Sans MS"/>
                <a:ea typeface="华文隶书"/>
              </a:rPr>
              <a:t>多 多 指 导</a:t>
            </a:r>
            <a:endParaRPr b="0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1547280" y="378900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Comic Sans MS"/>
                <a:ea typeface="华文隶书"/>
              </a:rPr>
              <a:t>谢 谢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2000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826920" y="134136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15——21</a:t>
            </a: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：你是一个自尊自爱的孩子，喜欢在同学和老师面前表现自己。在挫折面前，你会产生紧张和忧虑的情绪，说明你在乎自己的表现。但是你不会对自己能力达不到的目标太较真，你会试着去改变原有的目标。这也许使你不能够发挥出内在的潜力，你在平时应多听取别人的意见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7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67640" y="5589720"/>
            <a:ext cx="1079640" cy="10080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40458c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advTm="2000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116000" y="134136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ahoma"/>
              </a:rPr>
              <a:t>22——35</a:t>
            </a:r>
            <a:r>
              <a:rPr b="1" lang="zh-CN" sz="3200" spc="-1" strike="noStrike">
                <a:solidFill>
                  <a:srgbClr val="3333ff"/>
                </a:solidFill>
                <a:latin typeface="Tahoma"/>
              </a:rPr>
              <a:t>：你是一个比较敏感多愁的孩子。有着强烈的自尊心，对自己要求很高。在挫折面前，往往会产生强烈的不安，甚至有时还会觉得天要塌下来了。实际上，挫折每个人都会经历，你应该把挫折当成锻炼的机会，展开胸怀，多和别人交流沟通，学会向别人诉说你的烦恼，你会发现挫折并不可怕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7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24000" y="333360"/>
            <a:ext cx="1079280" cy="10080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40458c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advTm="2000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94920" y="1557360"/>
            <a:ext cx="8497800" cy="1727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Comic Sans MS"/>
                <a:ea typeface="华文彩云"/>
              </a:rPr>
              <a:t>直面挫折 成就人生</a:t>
            </a:r>
            <a:endParaRPr b="0" lang="en-US" sz="7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高二（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）班主题班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40458c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advTm="2000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-360" y="-243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omic Sans MS"/>
              </a:rPr>
              <a:t>心理学上对挫折的定义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挫折是个体从事有目的的活动过程中，遇到障碍或干扰，致使个体动机不能实现，需要不能满足的情绪状态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427280" y="249228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Comic Sans MS"/>
              </a:rPr>
              <a:t>（其实就是我们在学习、生活或者工作中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,</a:t>
            </a:r>
            <a:r>
              <a:rPr b="1" lang="zh-CN" sz="2800" spc="-1" strike="noStrike">
                <a:solidFill>
                  <a:srgbClr val="ff0066"/>
                </a:solidFill>
                <a:latin typeface="Comic Sans MS"/>
              </a:rPr>
              <a:t>遭遇失败、干扰、障碍、遭受损失或“碰钉子”后的一种心理感受。表现为内心的紧张、沮丧、烦恼、焦躁等。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6286680" y="0"/>
            <a:ext cx="2857320" cy="2381400"/>
          </a:xfrm>
          <a:prstGeom prst="rect">
            <a:avLst/>
          </a:prstGeom>
          <a:ln w="0">
            <a:noFill/>
          </a:ln>
        </p:spPr>
      </p:pic>
    </p:spTree>
  </p:cSld>
  <p:transition advTm="2000">
    <p:plus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1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086600" cy="388620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1258920" y="2276640"/>
            <a:ext cx="6705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imes New Roman"/>
              </a:rPr>
              <a:t>你在日常生活中遇到过哪些挫折，当时你是如何做的？形容一下你当时的心情。也可以讲讲你的朋友或者你听说过的事情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7380360" y="260280"/>
            <a:ext cx="1549440" cy="190512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0" y="4941720"/>
            <a:ext cx="1752480" cy="14605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304920" y="45720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心灵交流：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advTm="2000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52280" y="4572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22ec6"/>
                </a:solidFill>
                <a:latin typeface="Times New Roman"/>
                <a:ea typeface="华文彩云"/>
              </a:rPr>
              <a:t>常见的挫折：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200400" y="3049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22ec6"/>
                </a:solidFill>
                <a:latin typeface="Times New Roman"/>
                <a:ea typeface="华文彩云"/>
              </a:rPr>
              <a:t>学习挫折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00400" y="1219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22ec6"/>
                </a:solidFill>
                <a:latin typeface="Times New Roman"/>
                <a:ea typeface="华文彩云"/>
              </a:rPr>
              <a:t>理想挫折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486400" y="3049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22ec6"/>
                </a:solidFill>
                <a:latin typeface="Times New Roman"/>
                <a:ea typeface="华文彩云"/>
              </a:rPr>
              <a:t>交往挫折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486400" y="1219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22ec6"/>
                </a:solidFill>
                <a:latin typeface="Times New Roman"/>
                <a:ea typeface="华文彩云"/>
              </a:rPr>
              <a:t>生活挫折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572000" y="3429000"/>
            <a:ext cx="1066680" cy="76212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6" name="">
            <a:hlinkClick r:id="rId1" action="ppaction://hlinksldjump"/>
          </p:cNvPr>
          <p:cNvSpPr/>
          <p:nvPr/>
        </p:nvSpPr>
        <p:spPr>
          <a:xfrm>
            <a:off x="1403280" y="378936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imes New Roman"/>
                <a:ea typeface="华文彩云"/>
              </a:rPr>
              <a:t>态度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91320" y="1523880"/>
            <a:ext cx="2514600" cy="7621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705040" y="310824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彩云"/>
              </a:rPr>
              <a:t>向挫折屈服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700360" y="458136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彩云"/>
              </a:rPr>
              <a:t>勇敢地战胜挫折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04920" y="1371600"/>
            <a:ext cx="1066680" cy="274320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479880 h 2743200"/>
              <a:gd name="textAreaBottom" fmla="*/ 198900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6659640" y="3860640"/>
            <a:ext cx="936720" cy="865440"/>
          </a:xfrm>
          <a:prstGeom prst="rect">
            <a:avLst/>
          </a:prstGeom>
          <a:ln w="0">
            <a:noFill/>
          </a:ln>
        </p:spPr>
      </p:pic>
    </p:spTree>
  </p:cSld>
  <p:transition advTm="2000">
    <p:plus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00:01:5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0:12:54Z</dcterms:modified>
  <cp:revision>85</cp:revision>
  <dc:subject>主题班会课件(分28大类): http://shop62905894.taobao.com</dc:subject>
  <dc:title>主题班会课件(分28大类): http://shop62905894.taobao.com</dc:title>
</cp:coreProperties>
</file>